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D7F-6C9E-4047-98B8-D72821CD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ADD-B2D3-4108-A306-0F9828E4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0C0-A292-4CCE-B217-B5246F3F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974-F8E1-47AC-AF4C-06EE1269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5D0-DCED-418F-AA29-7B95E846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46B-E50A-4D3C-8185-EC15A151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064-7E11-448F-AEA4-8F8A3148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9C6-4EC6-4F85-81C8-83AE754C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555-B3F7-4D7B-A77F-08FB96BC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B0C-12DD-4029-85C0-8DC3B08B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3F8-C889-4B03-95BC-D7814E24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264-B5FC-4B55-89FF-6878D878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B499-5F83-4D3D-8BF2-5B76F46AA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0800000">
            <a:off x="6172200" y="4648320"/>
            <a:ext cx="282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4343400"/>
            <a:ext cx="192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Matthew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5-1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Per. #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Com #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19320" y="609480"/>
            <a:ext cx="6400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Bauhaus 93"/>
              </a:rPr>
              <a:t>M&amp;M'S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23120" y="51735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25780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2240" y="4917960"/>
            <a:ext cx="359748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uhaus 93"/>
              </a:rPr>
              <a:t>Music: free play music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auhaus 93"/>
              </a:rPr>
              <a:t>Jazz</a:t>
            </a:r>
            <a:r>
              <a:rPr b="0" lang="en-US" sz="2000" spc="-1" strike="noStrike">
                <a:solidFill>
                  <a:srgbClr val="000000"/>
                </a:solidFill>
                <a:latin typeface="Bauhaus 93"/>
              </a:rPr>
              <a:t>  6/1/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Bauhaus 93"/>
                <a:hlinkClick r:id="rId2"/>
              </a:rPr>
              <a:t>www.freeplaymusi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Mars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51814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9528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REST MARS,SR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/16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eb.mit.edu/invent/iow/mars.html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INVENTION/M&amp;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M&amp;M’s are one of the most manifested candy of 2008 to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Forrest Mars S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March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erlin Sans FB Dem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 Forrest Mars was born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Forrest Mars Created M&amp;m’s him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Forrest Mars Father Frank had been running a successful candy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49:03Z</dcterms:created>
  <dc:creator>install</dc:creator>
  <dc:description/>
  <dc:language>en-US</dc:language>
  <cp:lastModifiedBy>install</cp:lastModifiedBy>
  <dcterms:modified xsi:type="dcterms:W3CDTF">2011-06-01T17:35:46Z</dcterms:modified>
  <cp:revision>15</cp:revision>
  <dc:subject/>
  <dc:title>Slide 1</dc:title>
</cp:coreProperties>
</file>